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798A38B-F6E7-42DB-AFDC-39D170B3A0C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9963A00-4426-4E66-B58E-40E499AEA98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HAPI TEST POWERPOINT PRESENTATION</a:t>
            </a: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	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Does this work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How to use Nokia core and secondary color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0400" y="2100240"/>
            <a:ext cx="955440" cy="539640"/>
          </a:xfrm>
          <a:prstGeom prst="rect">
            <a:avLst/>
          </a:prstGeom>
          <a:solidFill>
            <a:srgbClr val="eb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7252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2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2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35800" y="2100240"/>
            <a:ext cx="955440" cy="539640"/>
          </a:xfrm>
          <a:prstGeom prst="rect">
            <a:avLst/>
          </a:prstGeom>
          <a:solidFill>
            <a:srgbClr val="e6c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9492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2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0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9840" y="2100240"/>
            <a:ext cx="1020600" cy="539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R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G 0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B 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59000" y="2100240"/>
            <a:ext cx="1001520" cy="539640"/>
          </a:xfrm>
          <a:prstGeom prst="rect">
            <a:avLst/>
          </a:prstGeom>
          <a:solidFill>
            <a:srgbClr val="44a5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244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R 0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G 1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B 0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5120" y="3286080"/>
          <a:ext cx="4222800" cy="28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3286080"/>
                    <a:ext cx="422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543640" y="3430440"/>
          <a:ext cx="3502080" cy="267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3640" y="3430440"/>
                    <a:ext cx="3502080" cy="26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865600" y="2100240"/>
            <a:ext cx="955440" cy="539640"/>
          </a:xfrm>
          <a:prstGeom prst="rect">
            <a:avLst/>
          </a:prstGeom>
          <a:solidFill>
            <a:srgbClr val="afd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3912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1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2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34440" y="2100240"/>
            <a:ext cx="955800" cy="539640"/>
          </a:xfrm>
          <a:prstGeom prst="rect">
            <a:avLst/>
          </a:prstGeom>
          <a:solidFill>
            <a:srgbClr val="ce9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9356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2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0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89800" y="2100240"/>
            <a:ext cx="955800" cy="539640"/>
          </a:xfrm>
          <a:prstGeom prst="rect">
            <a:avLst/>
          </a:prstGeom>
          <a:solidFill>
            <a:srgbClr val="af9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4928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1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1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160" y="1744560"/>
            <a:ext cx="107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b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63240" y="1744560"/>
            <a:ext cx="1205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84640" y="1744560"/>
            <a:ext cx="198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secondary b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01840" y="1744560"/>
            <a:ext cx="379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secondary colors for charts &amp; sha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3240" y="2100240"/>
            <a:ext cx="955800" cy="539640"/>
          </a:xfrm>
          <a:prstGeom prst="rect">
            <a:avLst/>
          </a:prstGeom>
          <a:solidFill>
            <a:srgbClr val="bfd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72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1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2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2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1112760"/>
            <a:ext cx="953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secondary color palette (secondary blue, secondary neutrals, secondary brights) can only be used in charts and shapes, in addition to core colo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9:52:09Z</dcterms:created>
  <dc:creator>Marko Kuosmanen</dc:creator>
  <dc:description/>
  <dc:language>en-US</dc:language>
  <cp:lastModifiedBy>Marko Kuosmanen</cp:lastModifiedBy>
  <cp:lastPrinted>1998-09-04T08:04:32Z</cp:lastPrinted>
  <dcterms:modified xsi:type="dcterms:W3CDTF">2005-10-13T09:52:43Z</dcterms:modified>
  <cp:revision>1</cp:revision>
  <dc:subject>Nokia PowerPoint template 2005</dc:subject>
  <dc:title>CHAPI TEST POWERPOINT PRESENTATION </dc:title>
</cp:coreProperties>
</file>